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53B-1FE8-49C6-931A-CD4CA5D2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AAB-87F8-47BC-AFA7-D3D0FAAB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D4D6-81B8-4258-B68B-22081398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C6D90-A217-4861-B123-90B43CA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902AC-A89E-4C6C-A8DC-B3F0D926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579B3-41ED-4FC4-9185-114FDDF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EF881-E050-4A95-8076-F528CEDA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3C68F-5C3A-4318-B8EA-5FA6E569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773E0-2336-4337-A282-88F22AFA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11971-E2E1-45DA-8298-BF1344D8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6EB7E-C1D6-4103-BC98-FFC76849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EF306-74A0-4185-8E14-F29C0C2A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650-5661-4108-87B2-B03E35E5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938BA-674D-4AC2-B7FD-C5F5315A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B0029-9B95-4548-BC35-DC0D948F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AFA36-6318-4356-8F42-205CE454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35442-5897-43F1-8C8B-0F09186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AE918-5BC0-4A65-809C-1D57878D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B84AA-EA69-4F2D-BE19-861F0C63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1012E-2950-4622-BB29-BB0B1EE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EE34D-A5A2-4C6E-8703-7D244FF3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74681-4C3B-4B14-8390-ADA6C3A0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F7999-8C4B-4654-A137-8B748C6A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85F-6D1A-4EBB-BCA0-E3B54E19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89D60-9F14-4043-9B66-1BE0800D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97E9D-1872-40E1-ADC3-5FA1D091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9E35A-C688-4FCB-B5AE-44A79096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902C4-F628-495D-98E7-DF15B957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68470-A34A-40AD-8815-E5B12188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AD4E9-836C-4F8C-A838-B966F857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D3F0C-9EF8-48B5-97D1-E042C4F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723C8-5640-44A5-A358-248141D9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B53D7-07D0-42DF-9AFA-2FECEDF8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52B39-D345-4EEA-9271-F7B68F2E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A855-CCD3-4DB4-BC25-98B5BB65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CC2A6-BB0A-4945-A06E-AC5A6517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31C2A-6559-4758-9E5A-2A1AD73E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D3447-93E0-4B4D-8C8B-51861FA3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4AE69-1751-4DEA-8161-82EC4EF1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FB88D-8D5D-4033-A7E1-DB7CF013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A6BC2-0936-4CAE-BA3F-FA3C0854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986C0-1256-4ADB-9CFD-7D49780B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6AEBD-E5E9-40FD-9115-B0632126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18AC7-8BE7-4E86-85F8-620E120A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C727A-C969-46D4-B217-274EB345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2528-CC3D-4BE8-94BA-A0CEB702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42267-AF26-4DF8-AC2B-7F1B74C9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BD7F5-3FBC-47E8-9B5E-276B39E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146E1-C5BA-49CA-827E-E306A915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04C73-5296-4F7B-9CCF-2BF52692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68254-1AE4-4084-ADBB-290E4820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DE521-660D-4DE0-B1E1-8B6FE8C2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CD94F-3536-4F75-A40F-351F4447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AC349-92BF-495A-9859-39683D40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3E33F-6332-49FE-B623-AAB7D5E8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9DC25-ADBC-4C24-B1EB-13334AAB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8595-9103-494F-87C8-638D52AA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62829-F02C-4C2A-963B-6F6090B7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80F92-AD64-4A68-B318-DBDF847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D977A-40E9-4699-BE04-ED4D1ED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96D78-BE4A-4D2C-AA17-362B866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23953-4480-45FF-8802-4B4B2F9E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51F67-0B44-487E-AEA7-25DF9BA2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DD5EA-E588-4B33-8843-E607A199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AEBBC-2BDF-4DE2-A7D4-217387C4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DFA6C-E13B-4B91-9998-6FD489B6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CB189-D6D3-4FB6-9602-9EC4D6FD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C6CD-FF69-4C69-AB9C-A601BFF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A2ED6-0117-4545-8331-4474CE18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70490-5812-416E-B230-AF37CBE9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25D58-84AE-4704-A438-D9CBEE45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ADB69-448D-4F4D-BEF8-3AF1DA0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D39BF-49DF-426B-9608-54F9DE6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D1781-B157-4F47-8D9E-00EAA2F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951EC-7D64-4DE3-9E67-5D96FCAF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136FD-B78E-446C-A913-27216FFC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E464D-9CC4-49FA-BBB5-1DF0E832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94E54-D5B9-4877-B624-8F2291A3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2BBF-FFC5-4443-B01D-3523C1B8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BD440-105C-4ECD-8BD0-83BE414F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FD36F-64C9-4BEE-AB44-850A0473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EA8CF-6CA2-4996-974A-E638C092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D01F2-8AD4-49E7-8B43-B1B8C842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7D44D-4B33-42A3-AC4A-6A808C5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56FD8-8E0D-47A0-9C65-12B519A1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344C6-47B3-4C79-8D0B-C9529373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840DD-450F-46B1-AE5B-601ED3E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C1269-CB11-49B3-9044-FCC9F402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2A06F8-902D-4742-8589-9A05083F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2B7-B757-4462-8867-2553D34C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98CAD-8684-48B8-83B4-814F0ECD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480079-4AD0-41D9-8517-980D5883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60F8F-3755-42E3-B92A-4209A5E6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E2F3A-E544-4D49-BF5B-2E225EA6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794103-FD3F-4F5F-ADC9-4E3D576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F09D6-3891-43DB-B3A5-EB7BEFB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52D26-62E2-4D3B-9BF8-62C5896B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0C4EB-97DE-43C4-8758-C79E05B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F957C-11CD-494A-B6D9-A9372FD6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8D1F6-4BDE-48A7-800F-2319AEF5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F789-F8F8-4EA8-8DF3-A8F8D98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F2ECE-1C52-4F37-BF7F-56D8CDC4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F03EC-9065-4B51-B972-E4955945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A63A2-BC78-4684-A99D-5826E3E5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4C0C6-5264-4534-B8C0-2F17F8B1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E75F3-E710-4C7B-AF25-B3EF3814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679FC-AD20-47F9-8D9E-47FA28D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7BD13-BB66-4125-84D1-624CEE7F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31518-03C5-42B4-A73B-763A6548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4F7E1-292A-4D03-95E4-120E71E4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4F13B-9552-4AC6-BB09-2ED2ED41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7DD-1767-47E6-8E13-A3C8A62A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64DD-1AB1-455D-BCC7-9361FB27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CB375-AC7C-4814-8C07-DA7D57C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A3591-77CD-43CF-9129-D339315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3BC37-B11A-4A3A-AFA6-B8F8085F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DDF37-6485-43FB-B907-0ADC9BF5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96463-E549-421A-9557-506A7D02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ACE9D1-37C8-416F-8003-7FD34257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964FB5-218E-4645-8AF8-75972F90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C696E-D253-42EF-BB01-29A2DFA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B93FC-7F1A-4CAD-958A-991F7F17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079748-E147-4107-8608-1F40A1DA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547B-C35D-4CD4-A190-633777EC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0BB09-028F-44D2-880C-E14F8C98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43223-3138-4A45-8723-30B81B9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3B712-B688-4838-AE64-44F4112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022AF-8FD8-445A-B3FC-42EC47A0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2BA53-8044-4481-BADB-769D0002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3259F-73DE-4C7E-940C-B1ECCFE0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AFBA5-7397-422B-882D-E6A3C34B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3FDF6-E698-4C35-A554-37F2556A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ADD448-F904-4C2A-AC94-60DB6B8C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C6C25-410E-4392-9AB6-7DFCCB69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77A8-BE2B-4C2B-B980-FABEAF21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8EEB22-C0BD-4DAB-A3BF-4E0C60CB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C5B50-A0F0-41BF-A0BF-A96E2851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3BC32B-7608-420D-A92F-D0074263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78665-9F22-485E-9AFE-770F602D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2AF999-BD9E-4088-9FB6-96BED018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309F8-0C01-4D58-95FA-5C0E631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53504-F0E5-49EF-B233-51F9FDE0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B4163-3213-4D20-8367-225F9133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EDC45-EF42-4FB2-92EE-1E40E1BE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5AD98-389F-4654-9053-A8369D52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A23D-0F0C-4413-BED9-91E1D596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AFF2C9-27D9-41AF-B81F-CCDC58A0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A01BF0-00C9-433C-96D4-DB768438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C70E9-52F0-4A87-8D11-583D8C7F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B05D0-7A37-4B58-9B7F-69498B47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484E7-295E-4820-BE8D-DC302FE9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9B33F8-1C03-4EC0-8660-C7814F6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38D65-8B0A-4DB0-B5AF-BDA9E0E3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CF04DD-09F5-4ECB-A383-FA0B42E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B7277-314B-4B66-85D9-7328BFFB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26E8E-0130-4AB9-A7BE-61FFB66F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3B00-C672-4836-9DF7-42E2E7AE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139EB-9CEF-46AF-9F4C-D5D231E5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F98414-CDD6-42ED-BE0F-C1F098C2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B4777-870E-4D1B-AE82-7CF0298F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5A4F1-DAF7-44AD-8046-569EB55F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F39949-07D9-46DA-B6BC-895CBEFD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3B1DA-C1AD-44E5-B8B7-B33DF9BF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5F2A7-3513-44D4-9E5E-E1CA593C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BC8B5-27D7-40BC-97F1-37C57D37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DAF3FD-1C00-4E36-836C-3A75E790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0837D-8D1A-4D1B-A503-CDECB3AC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28F1-A708-4E7F-87F8-949217B3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B4B78-24DE-47B9-A5F8-570BD051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D915EC-17D8-4ECE-AF19-03A3EB8B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E9EB4-F560-4C15-B0A4-5FDD56C6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52C1-950D-45BF-BB1C-E7DFE973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5F39-046A-49E7-A575-736D2E48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008D-F3DA-49BF-AA18-8FA08576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4B66-A9FB-4576-AA9A-3C90A82D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F5C-C568-4AF9-B986-ED13BE15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3203-A18E-4EF8-BCDA-431833C4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F730-2ABE-4FDC-9E80-C7BEC34E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DE9D-63A4-4942-B4C0-772C342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AF82-B219-439F-A933-3BBB911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ADE7-8BF8-487A-877A-102BAD66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6AE5-C4DD-4891-B068-4CD51211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1D8E-B20F-41FE-AA2B-5138D3B5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DC201-131F-4002-9030-119ECFC2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BB75-D8E1-428C-A585-955347DF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9055-B6E6-4C22-B70B-11D7198F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8F2-D914-44EA-8635-BDA4BB95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34FC2-B5FC-4935-AEA9-E78E1A39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C0BF-8CB0-4890-953C-A665B4D1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9CEEC-DD7F-4803-A93D-3CE93FF0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95C49-FE07-4F27-BFCB-FEF9EA5C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0C52-EA21-46AA-83FC-5110A78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3F45-6848-4CF7-B675-F1CE61F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ED62E-65DB-4FCE-8C43-6AF6C542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85F8-64A6-4EA4-B489-D8E1DDAC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F531-BBC2-49E3-AF75-E2337BD7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2DC6-94C8-42F4-BD3D-39C95D5E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90D-36F7-4E8F-BC3F-4EEACC9F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7BFA-C34F-4484-8E51-8D795481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EF3AB-7AA1-4F8B-B6A3-9EB3E219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84113-ABC0-47C7-AEE7-A2454FAF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9DA5D-55ED-4215-9AF0-550518CD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27EC-0D73-42C4-89C7-E42F7444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66E5A-459F-4F17-9097-7CD93B12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DA29-94F8-49A3-93FA-BC67EB6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CD24B-902F-4FBE-8E78-E6C4B1B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0EFD1-1DEF-421F-AEB3-D01D5820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1E684-B076-4B44-8195-4BD09095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C27-76E4-4C77-BBDF-4B27E09F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B0D29-2B90-435E-A19F-3F1A593B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72D70-9425-481B-9839-31E1B060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83495-86B6-41D8-9430-A282AEE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EAA77-1481-4819-949E-5333FC82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C0A10-DB4A-45A3-A9C0-1292DD40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276E0-E461-465B-8763-DF705BDD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17E0E-F724-418A-9410-F4F4826B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E31C-549F-42F4-8DED-E06F54AA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CF08-3DF1-4A22-B081-0391E406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605A-8290-4B86-A085-1840522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E47-246D-403A-8CDD-0ADF41F0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AD063-C9C9-42A7-92CA-03CD24AD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D89F-2051-4A7A-912E-21DF87AD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72B9C-736E-45DE-8BC7-BF0D8420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4DD37-3DF7-44DD-A191-5DF9E107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B5060-35C8-4F12-A08F-EE1C8B5A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D2053-6B07-42CD-A504-DA5A9314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4F26D-AC96-442F-96D6-19A1EAF8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9868-F864-470E-8468-81FD8D5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D0334-00BD-4609-8D9E-C2BC1DF2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357FB-C862-49C1-B5DA-D7B88C24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DE3-EB85-4AC0-B5B8-4D262B87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86BCC-883A-47AB-8C5A-612FD312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DFE07-5D8B-48AC-8D74-A729D49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6A9C-56F6-4777-8F91-7823956D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2A301-3F25-4677-8FAF-93DF586E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6E9A-0D46-452F-82F7-49765813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1AA04-8A19-44E1-9E7F-4D12EDF0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94A3E-ED64-491B-B47E-24716096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41DD2-3D3D-4477-A03D-A18C7D6B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D5310-A650-4E00-8889-17DCB009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4B08-8DA4-4A6A-81CA-E6B6A05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1CA-5624-4F69-8182-AC39CBE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2AD4A-852F-4F80-9FF0-B58168BC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3C3C8-B4F0-45B3-9257-7994CC07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BD56-EDB8-4FAD-AA08-8E73939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70825-C610-4C7F-87DD-14F80E2B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82012-6C99-4461-A027-97749336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257F0-D0BA-4601-8635-BE534F51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6F5B8-CEB8-45D3-AF2E-D5171F1A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83EA7-3489-4961-B661-684A4EB1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C5B28-EE04-4B85-83B3-5F52520F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D0502-1C3F-4087-9DE7-550F58BB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8F79-5930-404B-BE65-CEF1424BD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0818-FEBF-4E4A-9120-4B8CE198CF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025F-1E63-4EF4-A1E4-60366A4C34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5519-2A1E-4D69-8615-966C0F1C8F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CF97-0896-4B8D-BA36-DD0818DC6F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1517-AC39-430C-A116-14F308B2CB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44DE-9872-4C55-8F68-400FD05BA8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C896-FF1D-41B0-A323-D71F18EB9D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810C-55D2-45A9-B109-8D8F42302C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AA6A-EA45-4B24-B29C-1B3645EE3E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9660-F049-44FF-90F5-2E1C893D22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46D4-B04D-45A0-A69D-401CE3A051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5831-21FB-42DB-9558-2CEE7CBEE4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D04A-6DA9-41CD-8C6C-A912EBD234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179E-1B2A-45F9-A1B9-5631E8B7CE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99EC-1D30-4699-9CF8-3B5058EC21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E61F-0801-4D5A-8767-FF904A9BED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9E56-127E-43AA-92E2-77A889FB7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2620-C61C-4C3D-8EE5-5E50967FBB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D19A-D947-41CC-998E-860027B82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1405-2DD7-4770-80FF-C42A5788E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98F3-996A-4077-9771-BB0A61EFE2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E8C2-3901-43B1-AB93-1F1090A30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F221-E893-4C35-907F-67782BCA83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59EC-A2DA-427A-8ADB-61848297F7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EA02-070F-4899-91CF-724F80D6B5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9086-F35C-4CB3-B8C8-706395E4B7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2052-D018-4F70-8799-9E326C6A2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921F-E9F7-4D3D-88FF-3D511A2CE4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16E4-C244-4F78-A076-1BB7EF8DB7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C23-351E-475F-9147-8612F20BAD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44F8-D88A-4842-B087-3102D62CC4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2AF0-56B7-452F-A6B6-46EC3BA78A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DF0C-90A4-48F8-9D16-2570654394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74FB-3C3D-4FBD-901D-478A173D4D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CABE-66AD-419E-9465-DA78E0987D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3E4-D96E-48C8-927F-AA5F83CC1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935C-857A-4A72-8E91-9BB61554A2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DD65-C5EB-41DA-9F48-047B63CE3F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D5E3-B2D3-44BD-99F1-FCEBBEF44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3077"/>
          <p:cNvGrpSpPr/>
          <p:nvPr/>
        </p:nvGrpSpPr>
        <p:grpSpPr>
          <a:xfrm>
            <a:off x="222120" y="1463760"/>
            <a:ext cx="8893080" cy="3405240"/>
            <a:chOff x="222120" y="1463760"/>
            <a:chExt cx="8893080" cy="3405240"/>
          </a:xfrm>
        </p:grpSpPr>
        <p:pic>
          <p:nvPicPr>
            <p:cNvPr id="1025" name="图片 1" descr=""/>
            <p:cNvPicPr/>
            <p:nvPr/>
          </p:nvPicPr>
          <p:blipFill>
            <a:blip r:embed="rId1"/>
            <a:stretch/>
          </p:blipFill>
          <p:spPr>
            <a:xfrm>
              <a:off x="2950920" y="1463760"/>
              <a:ext cx="354348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" descr=""/>
            <p:cNvPicPr/>
            <p:nvPr/>
          </p:nvPicPr>
          <p:blipFill>
            <a:blip r:embed="rId2"/>
            <a:stretch/>
          </p:blipFill>
          <p:spPr>
            <a:xfrm>
              <a:off x="1004760" y="2671920"/>
              <a:ext cx="707688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图片 3" descr=""/>
            <p:cNvPicPr/>
            <p:nvPr/>
          </p:nvPicPr>
          <p:blipFill>
            <a:blip r:embed="rId3"/>
            <a:stretch/>
          </p:blipFill>
          <p:spPr>
            <a:xfrm>
              <a:off x="222120" y="3860640"/>
              <a:ext cx="348588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图片 4" descr=""/>
            <p:cNvPicPr/>
            <p:nvPr/>
          </p:nvPicPr>
          <p:blipFill>
            <a:blip r:embed="rId4"/>
            <a:stretch/>
          </p:blipFill>
          <p:spPr>
            <a:xfrm>
              <a:off x="4076640" y="3916440"/>
              <a:ext cx="5038560" cy="95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533520" y="2247840"/>
            <a:ext cx="8076960" cy="236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583416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1116000" y="4019400"/>
            <a:ext cx="58341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9" name="图片 1" descr=""/>
          <p:cNvPicPr/>
          <p:nvPr/>
        </p:nvPicPr>
        <p:blipFill>
          <a:blip r:embed="rId1"/>
          <a:stretch/>
        </p:blipFill>
        <p:spPr>
          <a:xfrm>
            <a:off x="200160" y="1209600"/>
            <a:ext cx="87436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576360" y="2324160"/>
            <a:ext cx="7989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657360" y="1295280"/>
            <a:ext cx="7829280" cy="42674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3635280" y="244944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4932360" y="24494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7020000" y="242100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5"/>
          <a:stretch/>
        </p:blipFill>
        <p:spPr>
          <a:xfrm>
            <a:off x="3635280" y="357336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6"/>
          <a:stretch/>
        </p:blipFill>
        <p:spPr>
          <a:xfrm>
            <a:off x="4788000" y="3573360"/>
            <a:ext cx="1871640" cy="4492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7"/>
          <a:stretch/>
        </p:blipFill>
        <p:spPr>
          <a:xfrm>
            <a:off x="7020000" y="3573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8"/>
          <a:stretch/>
        </p:blipFill>
        <p:spPr>
          <a:xfrm>
            <a:off x="3535200" y="468144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9"/>
          <a:stretch/>
        </p:blipFill>
        <p:spPr>
          <a:xfrm>
            <a:off x="4830840" y="4653000"/>
            <a:ext cx="1901880" cy="4492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10"/>
          <a:stretch/>
        </p:blipFill>
        <p:spPr>
          <a:xfrm>
            <a:off x="6877080" y="4667400"/>
            <a:ext cx="144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" descr=""/>
          <p:cNvPicPr/>
          <p:nvPr/>
        </p:nvPicPr>
        <p:blipFill>
          <a:blip r:embed="rId2"/>
          <a:stretch/>
        </p:blipFill>
        <p:spPr>
          <a:xfrm>
            <a:off x="519120" y="1085760"/>
            <a:ext cx="8104320" cy="4686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54764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547640" y="3284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547640" y="4653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138320" y="2109960"/>
            <a:ext cx="6867360" cy="2638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37960" y="1095480"/>
            <a:ext cx="8668080" cy="4667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258920" y="1900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738360" y="1147680"/>
            <a:ext cx="7665840" cy="45626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042920" y="117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33240" y="2166840"/>
            <a:ext cx="7875720" cy="2524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00000" y="21765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254160" y="1227240"/>
            <a:ext cx="8637480" cy="40860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1258920" y="2116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1258920" y="2708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1332000" y="33577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5"/>
          <a:stretch/>
        </p:blipFill>
        <p:spPr>
          <a:xfrm>
            <a:off x="1258920" y="4005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6"/>
          <a:stretch/>
        </p:blipFill>
        <p:spPr>
          <a:xfrm>
            <a:off x="1258920" y="4724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1938240" y="1747800"/>
            <a:ext cx="52675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176040" y="1004760"/>
            <a:ext cx="8790120" cy="48484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1547640" y="2363760"/>
            <a:ext cx="518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1187280" y="4135320"/>
            <a:ext cx="734544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1042920" y="5272200"/>
            <a:ext cx="7345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2:44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